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CF8-80BB-47F7-8BCC-7C6418EF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8FE-E32B-44AC-A826-39974512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AEF-AB87-4C01-8FFD-53578174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04F-85B1-4762-8E9C-862901F9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1E8-26C6-456D-A142-578E7C3E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358-EFCD-4948-8586-8F0B878B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74C-8B78-416C-B736-C4612303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2AF-B521-4CC6-BE5F-46C7EDF5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3A7-B471-43F5-973C-31FB3701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D95-F18A-4D5B-997B-5CECAAAA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4AB-7FA0-44A1-A397-06BE39DA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B247-6DCB-4819-AB6C-B5965CB7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CF63-235D-4DB6-9E66-40C18FC4FE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egre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ithin a few minutes or within the first h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with conv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ction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es (Pheochromocytoma cri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few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hypertensive heart failure (pulmonary edema I-II deg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ed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00" y="112500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457200" y="2236680"/>
            <a:ext cx="82296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y in hypertensive crisis (vasodilators or adrenergic inhibi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5002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epend solely on the degree of therapeutic urgency and not on the pressure 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eclampsia with convulsion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regulation of arterial hypertension, as well as the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of arterial hypertension,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pulmonary edema, aortic dissection → decrease in 15 to 3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→ decrease by 25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2-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decrease to a value of 170-180/100mmHg during 6-12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eutic strategies in hypertensive patients with acute stroke and cerebrovascular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458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788000" y="5229360"/>
            <a:ext cx="228600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3995640" y="2708280"/>
            <a:ext cx="2286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- parenteral or 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antage of parenteral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n the easy and quick monitoring of the hypotensive effect, but also in the method of administration in life-threatening patients (impossibility of per os administration, impaired conscious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 nitroprus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(Medicine of choice), cerebral hemorrhage or infarction, acute left ventricular weakness, acute coronary insufficiency, aneurysm dissection, catecholamine crisis, head injury, after surgery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oglyceri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LV weakness, acute coronary insufficiency, post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pid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blocker of postsynaptic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ά1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ergic receptors (reduces peripheral vascular resistance), central sympatholytic effect, manifested in 2 to 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V insu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alazine, Diaz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, extensive burns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856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tolamin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tal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, acute coronary insufficiency, burns, postoperative, malignant hypertension (not in broncho-obstruction, AV block, SA b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 crisis-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dden and larg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blood pressure values in a short time interva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currently, the absolute measured blood pressure values are less important for defining the hypertensive crisis itself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840" y="106164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o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256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opril, enalapril, rami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i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fedi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532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recommendations for therapeutic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557360"/>
          <a:ext cx="7416720" cy="5754600"/>
        </p:xfrm>
        <a:graphic>
          <a:graphicData uri="http://schemas.openxmlformats.org/drawingml/2006/table">
            <a:tbl>
              <a:tblPr/>
              <a:tblGrid>
                <a:gridCol w="2112840"/>
                <a:gridCol w="2651400"/>
                <a:gridCol w="2652480"/>
              </a:tblGrid>
              <a:tr h="3736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ia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Medicine of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ontrain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isch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e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Hypertensive encephal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cute left ventricular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ortic dis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Eclamp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troglycer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-hydralaz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e therapy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, it is no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989000"/>
          <a:ext cx="8275680" cy="4268880"/>
        </p:xfrm>
        <a:graphic>
          <a:graphicData uri="http://schemas.openxmlformats.org/drawingml/2006/table">
            <a:tbl>
              <a:tblPr/>
              <a:tblGrid>
                <a:gridCol w="4426200"/>
                <a:gridCol w="3849480"/>
              </a:tblGrid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lower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n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ive tachycardia, arrhythmia, arterial hyperten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with sublingual nifedip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"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requirements of the myocardium for 02, cerebral hypoper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every crisis with parenteral furosem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lyte imba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o not treat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wi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N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intracranial 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precautions in the treatment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 ly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lderly, start with a lower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t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s of a good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cam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sed in the therapy of hypertensive cri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 pressure is not lowered too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titratable and that the hypotensive effect can be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contraindications for various clinical manifestations of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significant interactions with other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side effects are rare and m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hange in definition and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ymptomat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w called chronic unrecognized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h signs of vascular damage to vital orga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that have essent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in normotensive patients (stres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um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 onset, progressive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anxiety, fear, suff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(headache, nausea, vomi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dema, decreased rena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, 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 and 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mediated organ damage (HMOD) refers to structural or functional changes in arteries or in target organs that can be present in long-standing hypertension, but it can be also found in naive never treated patients, or in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emergency are situations in which severe hypertension (grade 3) is associated with acute HMOD, which is often life-threatening and requires immediate but careful intervention to lower BP, usually with intravenous thera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and magnitude of an increase in BP must be at least important as the absolute level of BP in determining the magnitude of organ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presentation 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ension emergency are patients with malignant hypertension (fundoscopic change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lame haemorrhages with/or papilloedema, microangiopathy, and can be associated with encephalopathy, acute hearth failure, and acute deterioration in renal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most important rules in the treatment of hypertensiv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blood pressure regulation depends on the degree of therapeutic u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5:51:59Z</dcterms:created>
  <dc:creator>Registered User</dc:creator>
  <dc:description/>
  <dc:language>en-US</dc:language>
  <cp:lastModifiedBy>Violeta</cp:lastModifiedBy>
  <dcterms:modified xsi:type="dcterms:W3CDTF">2023-08-19T17:35:44Z</dcterms:modified>
  <cp:revision>85</cp:revision>
  <dc:subject/>
  <dc:title>Hipertenzivna kriza-hitno ili urgentno stan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